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E902-548F-420B-AFCE-D37523833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409E-6E6A-4452-86A1-247CD852D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DBDD-CCE5-42D2-9E5E-AD6AE5007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05CC-74E6-4530-9DC3-E2E200FCA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ABD1-DD96-4BAA-A1E3-57524C0D2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E617-5873-4D82-87F3-FCDF818EC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7B1D-D9A0-439F-BE97-A8AB4F945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A6B5-B8B1-48D9-BBBE-AC3432D17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FC2D-036B-4AE0-A16D-0F7D73EE5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F84A-F1BE-445E-9A54-9C93D9EDB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3C7C-E885-4F12-9EFD-B9177F56A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3866-69CC-436F-9B85-58F70B6C2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F0620-4230-4A97-8637-159164898D3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D7906-72CB-41CB-AC5F-516CB07B9F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07E9-A16F-4A7A-9804-BBA4D1BD10D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68360" y="836640"/>
            <a:ext cx="83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I 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ncaminhar, mensalmente, ao NTE relatórios de atividades pedagóg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dos trabalhos desenvolvido nas unidades escolar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6720" y="1700280"/>
            <a:ext cx="849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VIII –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manter atualizados os registros das atividades executadas nas STEs e arquivados em mídias externas de armazenament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través do diário da ST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-  criar pastas no servidor: aluno/profess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-  deixar na STE para os professores regentes e alunos instruções de    como  compartilhar/salvar as atividad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6720" y="3573360"/>
            <a:ext cx="842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X 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zelar pela utilização e preservação da STE, procedendo à conferê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limpeza periódica dos equipament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o professor gerenciador deverá ser responsável pela conservação e     limpeza dos equipamen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084640"/>
            <a:ext cx="835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onitorar para que nenhum equipamento seja retirado da Sala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cnologia sem autorização do NTE/COTEC/SUPED/SE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C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9D9B-293A-4713-9607-949861B91B0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2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771640" y="907920"/>
            <a:ext cx="3024360" cy="4597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RO DIDÁ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1916280"/>
            <a:ext cx="84247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forme a CI n. 014/2011  de 7 de novembro de 2011 referente ao PNLD na escola, cabe  Coordenador Pedagógic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eri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zar o recebimento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ição dos livros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ompanhar o remanejamento dos livros d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NL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o decorrer do a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9640" y="4581360"/>
            <a:ext cx="7632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mpanha do Livro Didá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tiv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Promover ações de incentivo à utilização consciente e conservação do livro didát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visão para iníci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março/20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CaixaDeTexto 1"/>
          <p:cNvSpPr/>
          <p:nvPr/>
        </p:nvSpPr>
        <p:spPr>
          <a:xfrm>
            <a:off x="179280" y="243000"/>
            <a:ext cx="58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bf1de"/>
                </a:solidFill>
                <a:latin typeface="Calibri"/>
              </a:rPr>
              <a:t>Nome do Setor : Coordenadoria de Tecnologia Educ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0395-C854-45F5-9009-989BC877569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8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4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7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0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9AC5-C645-4E29-B17C-ED9232C5F52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853E-A8D7-4AD9-A861-6B10DF6190A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71640" y="2781360"/>
            <a:ext cx="7199280" cy="79200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e5b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OORDENADORIA DE TECNOLOGIA EDUC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71640" y="3573360"/>
            <a:ext cx="7200720" cy="892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Aparecida Campos Feitos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oordenadora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900000" y="907920"/>
            <a:ext cx="7200720" cy="1684080"/>
            <a:chOff x="900000" y="907920"/>
            <a:chExt cx="7200720" cy="1684080"/>
          </a:xfrm>
        </p:grpSpPr>
        <p:sp>
          <p:nvSpPr>
            <p:cNvPr id="44" name=""/>
            <p:cNvSpPr/>
            <p:nvPr/>
          </p:nvSpPr>
          <p:spPr>
            <a:xfrm>
              <a:off x="900000" y="907920"/>
              <a:ext cx="7199280" cy="79200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  <a:effectLst>
              <a:outerShdw dist="17819" dir="2700000" blurRad="0" rotWithShape="0">
                <a:srgbClr val="1e5b3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UPERINTENDÊNCIA DE POLÍTICAS DE EDUCAÇÃ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900000" y="1699920"/>
              <a:ext cx="7200720" cy="8920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500" spc="-1" strike="noStrike">
                  <a:solidFill>
                    <a:srgbClr val="000000"/>
                  </a:solidFill>
                  <a:latin typeface="Tahoma"/>
                </a:rPr>
                <a:t>Roberval Angelo Furtado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ahoma"/>
                </a:rPr>
                <a:t>Superintendente</a:t>
              </a:r>
              <a:r>
                <a:rPr b="1" lang="pt-BR" sz="18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006560" y="4570560"/>
            <a:ext cx="7199280" cy="79200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e5b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NÚCLEO DE TECNOLOGIA EDUCAC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NOVA ANDRAD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06560" y="5362560"/>
            <a:ext cx="7200720" cy="892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Gabriel Galiego Ne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iretor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9BF7-319A-41A5-966D-D6E7C9C4D16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CaixaDeTexto 1"/>
          <p:cNvSpPr/>
          <p:nvPr/>
        </p:nvSpPr>
        <p:spPr>
          <a:xfrm>
            <a:off x="179280" y="243000"/>
            <a:ext cx="58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bf1de"/>
                </a:solidFill>
                <a:latin typeface="Calibri"/>
              </a:rPr>
              <a:t>Nome do Setor : Coordenadoria de Tecnologia Educ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9640" y="1484280"/>
            <a:ext cx="8209080" cy="67284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PROFESSOR GERENCIADOR DE TECNOLOGIAS EDUCACIONAI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E RECURSOS MIDIÁTIC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2492280"/>
            <a:ext cx="8640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professor gerenciador de tecnologias educacionais deverá ter o horário/dia dos planejamentos dos professores regentes para fomentar junto  a coordenação pedagógica a integração dos recursos tecnológicos existentes na escola no seu planejam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professor gerenciador de tecnologias educacionais deverá desenvolver seus trabalhos, integrado aos coordenadores pedagógicos/áreas da unidade escol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rário da STE – será de acordo com a realidade da escola: fixo/agendam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professor gerenciador deverá fomentar e acompanhar a utilização da STE de maneira que a mesma não fique ociosa. Na ausência do professor gerenciador  na escola, o coordenador pedagógico e o diretor disponibilizarão a STE e os demais recursos midiáticos assumindo a responsabilidade pelos mesm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19280" y="836640"/>
            <a:ext cx="5689440" cy="39888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LA DE TECNOLOGIA EDUC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BBAB-6F52-4F4E-AD70-E2372C0053B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50920" y="1197000"/>
            <a:ext cx="8569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acterísticas necessárias ao professor gerenciador de tecnologias educacionais e recursos midiátic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 dominio das tecnologias e de sua utilização nas diversas áreas e disciplinas do currícul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ter um bom relacionamento interpesso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 dinâmico, criativo e proativ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58920" y="5013360"/>
            <a:ext cx="51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ATRIBUIÇÕES DO PROFES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CaixaDeTexto 1"/>
          <p:cNvSpPr/>
          <p:nvPr/>
        </p:nvSpPr>
        <p:spPr>
          <a:xfrm>
            <a:off x="179280" y="243000"/>
            <a:ext cx="58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bf1de"/>
                </a:solidFill>
                <a:latin typeface="Calibri"/>
              </a:rPr>
              <a:t>Nome do Setor : Coordenadoria de Tecnologia Educ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C821-453A-40EB-9B04-03A200E242D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77840" y="1158840"/>
            <a:ext cx="8642160" cy="119124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RESOLUÇÃO/SED n. 2.491,de 8 de dezembro de 201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Arial"/>
              </a:rPr>
              <a:t>Dispõe sobre o Projeto de Implementação das Salas de Tecnologias Educacionais - STEs e a utilização das diversas tecnologias midiáticas nas unidades escolares da Rede Estadual de Ensino e dá outras providênci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2655720"/>
            <a:ext cx="8569080" cy="9169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rt. 14. Caberá ao professor responsável pelo gerenciamento das tecnologias educacionais e recursos midiáticos nas unidades escolar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3860640"/>
            <a:ext cx="864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auxiliar os professores regentes no planejamento e desenvolvimento das atividades pedagógicas no uso das tecnologias educacionai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com base no guia nortead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através de vídeos da TV Escol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portal do profess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dominio public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tes educativ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CaixaDeTexto 1"/>
          <p:cNvSpPr/>
          <p:nvPr/>
        </p:nvSpPr>
        <p:spPr>
          <a:xfrm>
            <a:off x="179280" y="243000"/>
            <a:ext cx="58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bf1de"/>
                </a:solidFill>
                <a:latin typeface="Calibri"/>
              </a:rPr>
              <a:t>Nome do Setor : Coordenadoria de Tecnologia Educ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EE40-6D30-4B79-B2ED-739E162541A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24000" y="836640"/>
            <a:ext cx="828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strar formação continuada aos professores regentes,coordenadores pedagógicos, coordenadores de área e diretores da escola no pedagógico uso das tecnologias educacionais e recursos midiátic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junto com o NTE propiciar oficinas pedagógicas aos professores regente /coordenação pedagógica/direção que contemple a utilização das tecnologias educacionais e recursos midiáti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2852640"/>
            <a:ext cx="842472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responsabilizar-se pelo gerenciamento das tecnologias educacionais e recursos midiáticos, juntamente com a direção e coordenação pedagógica da unidade escolar, em conformidade com o Projeto Político-Pedagógico, Referencial Curricular da Rede Estadual de Ensin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o professor gerenciador deverá conhecer o Projeto Político-Pedagógico da unidade escola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conhecer e ter sempre em mãos o Referencial Curricular da Rede Estadual de Ensi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8BA1-66E5-41A6-8B78-426E033A651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24000" y="981000"/>
            <a:ext cx="8496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V 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presentar aos professores regentes sugestões do uso das tecnologias e mídias para a melhoria do processo ensino e aprendizage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iar um mural restrito as tecnologias educacionai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ponibilizar textos, informativos referentes as tecnologia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iar acervos de vídeo/material impress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por e desenvolver projetos interdisciplinares com a utilização das tecnologias disponíveis na esco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314172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 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rticipar efetivamente dos cursos de formação continuada oferecidos pela Secretaria de Estado de Educaçã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o professor gerenciador de tecnologia educacionais deverá participar    constantemente de formações continuadas sem desistênc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4508640"/>
            <a:ext cx="820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 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umprir a carga horária destinada ao planejamento pedagógico; será de acordo com o numero de turmas, ou seja, será distribuído igualmente entre as turm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será de acordo com o numero de turmas, ou seja, será distribuído igualmente entre as turm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CaixaDeTexto 1"/>
          <p:cNvSpPr/>
          <p:nvPr/>
        </p:nvSpPr>
        <p:spPr>
          <a:xfrm>
            <a:off x="179280" y="243000"/>
            <a:ext cx="58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bf1de"/>
                </a:solidFill>
                <a:latin typeface="Calibri"/>
              </a:rPr>
              <a:t>Nome do Setor : Coordenadoria de Tecnologia Educ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C99B-EB08-4310-A4C7-6CEF53F0CE5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" dur="2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9T13:15:03Z</dcterms:created>
  <dc:creator>fbaptista</dc:creator>
  <dc:description/>
  <dc:language>en-US</dc:language>
  <cp:lastModifiedBy>NTE</cp:lastModifiedBy>
  <dcterms:modified xsi:type="dcterms:W3CDTF">2012-03-06T13:06:54Z</dcterms:modified>
  <cp:revision>63</cp:revision>
  <dc:subject/>
  <dc:title>Slide 1</dc:title>
</cp:coreProperties>
</file>